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32A-D39C-43D3-95AB-F8F678C5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93D-96F4-4A53-84C7-5144EE15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94F-26EA-4211-BC06-42BA4B83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147-E1BB-4CCD-8E4B-2BE4518B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450-2894-4304-9AA9-A53AF0FA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F07-8177-4D3F-985D-984E7B97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A19-73F4-42B0-8AC9-4B1D9E25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8ED-4EE9-4772-B4EE-484F6991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249-96FC-435F-AFF5-E95E19D2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776-6A9E-4B92-A32F-16F0EED5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B7C-0EA6-434B-91B2-0950F41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F10-F1BC-430B-8A3B-DF8662A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4AB1-6D0D-43B2-93F9-19E8D053AF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oundbible.com/1964-Small-Crowd-Applause.html" TargetMode="External"/><Relationship Id="rId2" Type="http://schemas.openxmlformats.org/officeDocument/2006/relationships/hyperlink" Target="file:///Dumy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Documents and Settings\Pavilion\Dokumenty\Dumy\šablona na Dumy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TextovéPole 2"/>
          <p:cNvSpPr/>
          <p:nvPr/>
        </p:nvSpPr>
        <p:spPr>
          <a:xfrm>
            <a:off x="3264480" y="2492280"/>
            <a:ext cx="27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st z opti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které fázi je Měsíc, jestliže pro pozorovatele na Zemi nastalo zatmění Sl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SMALL_CROWD_APPLAUSE-Yannick_Lemieux-1268806408.mp3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Flashbang-Kibblesbob-899170896.mp3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Flashbang-Kibblesbob-899170896.mp3" descr=""/>
          <p:cNvPicPr/>
          <p:nvPr/>
        </p:nvPicPr>
        <p:blipFill>
          <a:blip r:embed="rId3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Flashbang-Kibblesbob-899170896.mp3" descr=""/>
          <p:cNvPicPr/>
          <p:nvPr/>
        </p:nvPicPr>
        <p:blipFill>
          <a:blip r:embed="rId4"/>
          <a:stretch/>
        </p:blipFill>
        <p:spPr>
          <a:xfrm>
            <a:off x="900000" y="2852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bdélník 7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bdélník 8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délník 9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bdélník 10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bdélník 11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bdélník 12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délník 13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ovéPole 38"/>
          <p:cNvSpPr/>
          <p:nvPr/>
        </p:nvSpPr>
        <p:spPr>
          <a:xfrm>
            <a:off x="1343520" y="386064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1. čtv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ovéPole 43"/>
          <p:cNvSpPr/>
          <p:nvPr/>
        </p:nvSpPr>
        <p:spPr>
          <a:xfrm>
            <a:off x="1411920" y="270828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úplň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ovéPole 44"/>
          <p:cNvSpPr/>
          <p:nvPr/>
        </p:nvSpPr>
        <p:spPr>
          <a:xfrm>
            <a:off x="1339200" y="3284640"/>
            <a:ext cx="14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no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ovéPole 45"/>
          <p:cNvSpPr/>
          <p:nvPr/>
        </p:nvSpPr>
        <p:spPr>
          <a:xfrm>
            <a:off x="1342440" y="450864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3. čtv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spusť časomíru!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364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364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364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0538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 se odrazí v dutém zrcadle paprsek, který prochází ohnisk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SMALL_CROWD_APPLAUSE-Yannick_Lemieux-1268806408.mp3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Flashbang-Kibblesbob-899170896.mp3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Flashbang-Kibblesbob-899170896.mp3" descr=""/>
          <p:cNvPicPr/>
          <p:nvPr/>
        </p:nvPicPr>
        <p:blipFill>
          <a:blip r:embed="rId3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Flashbang-Kibblesbob-899170896.mp3" descr=""/>
          <p:cNvPicPr/>
          <p:nvPr/>
        </p:nvPicPr>
        <p:blipFill>
          <a:blip r:embed="rId4"/>
          <a:stretch/>
        </p:blipFill>
        <p:spPr>
          <a:xfrm>
            <a:off x="90000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2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bdélník 7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délník 8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délník 9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 10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11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12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3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ovéPole 38"/>
          <p:cNvSpPr/>
          <p:nvPr/>
        </p:nvSpPr>
        <p:spPr>
          <a:xfrm>
            <a:off x="1337400" y="3933720"/>
            <a:ext cx="36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mo k optické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43"/>
          <p:cNvSpPr/>
          <p:nvPr/>
        </p:nvSpPr>
        <p:spPr>
          <a:xfrm>
            <a:off x="1488600" y="270828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vnoběžně s optickou os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ovéPole 44"/>
          <p:cNvSpPr/>
          <p:nvPr/>
        </p:nvSpPr>
        <p:spPr>
          <a:xfrm>
            <a:off x="1413000" y="3284640"/>
            <a:ext cx="46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ět po své původní dr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ovéPole 45"/>
          <p:cNvSpPr/>
          <p:nvPr/>
        </p:nvSpPr>
        <p:spPr>
          <a:xfrm>
            <a:off x="1341360" y="458136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středu kři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louk 22"/>
          <p:cNvSpPr/>
          <p:nvPr/>
        </p:nvSpPr>
        <p:spPr>
          <a:xfrm rot="2712600">
            <a:off x="5472000" y="2998800"/>
            <a:ext cx="2881440" cy="2519280"/>
          </a:xfrm>
          <a:custGeom>
            <a:avLst/>
            <a:gdLst/>
            <a:ahLst/>
            <a:rect l="l" t="t" r="r" b="b"/>
            <a:pathLst>
              <a:path stroke="0" w="2881312" h="2519362">
                <a:moveTo>
                  <a:pt x="1440656" y="0"/>
                </a:moveTo>
                <a:cubicBezTo>
                  <a:pt x="1828648" y="0"/>
                  <a:pt x="2200239" y="136839"/>
                  <a:pt x="2471328" y="379547"/>
                </a:cubicBezTo>
                <a:cubicBezTo>
                  <a:pt x="2797259" y="671355"/>
                  <a:pt x="2941425" y="1083091"/>
                  <a:pt x="2858196" y="1484431"/>
                </a:cubicBezTo>
                <a:lnTo>
                  <a:pt x="1440656" y="1259681"/>
                </a:lnTo>
                <a:lnTo>
                  <a:pt x="1440656" y="0"/>
                </a:lnTo>
                <a:close/>
              </a:path>
              <a:path fill="none" w="2881312" h="2519362">
                <a:moveTo>
                  <a:pt x="1440656" y="0"/>
                </a:moveTo>
                <a:cubicBezTo>
                  <a:pt x="1828648" y="0"/>
                  <a:pt x="2200239" y="136839"/>
                  <a:pt x="2471328" y="379547"/>
                </a:cubicBezTo>
                <a:cubicBezTo>
                  <a:pt x="2797259" y="671355"/>
                  <a:pt x="2941425" y="1083091"/>
                  <a:pt x="2858196" y="148443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24"/>
          <p:cNvSpPr/>
          <p:nvPr/>
        </p:nvSpPr>
        <p:spPr>
          <a:xfrm>
            <a:off x="6084720" y="4508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římá spojovací čára 26"/>
          <p:cNvSpPr/>
          <p:nvPr/>
        </p:nvSpPr>
        <p:spPr>
          <a:xfrm>
            <a:off x="63007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27"/>
          <p:cNvSpPr/>
          <p:nvPr/>
        </p:nvSpPr>
        <p:spPr>
          <a:xfrm>
            <a:off x="7308720" y="4365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ovéPole 28"/>
          <p:cNvSpPr/>
          <p:nvPr/>
        </p:nvSpPr>
        <p:spPr>
          <a:xfrm>
            <a:off x="6159240" y="38606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ovéPole 29"/>
          <p:cNvSpPr/>
          <p:nvPr/>
        </p:nvSpPr>
        <p:spPr>
          <a:xfrm>
            <a:off x="7166520" y="38606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Přímá spojovací šipka 33"/>
          <p:cNvCxnSpPr/>
          <p:nvPr/>
        </p:nvCxnSpPr>
        <p:spPr>
          <a:xfrm flipV="1">
            <a:off x="6659280" y="3644280"/>
            <a:ext cx="1369080" cy="165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spusť časomíru!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0538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364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364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364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Obdélník 9"/>
          <p:cNvSpPr/>
          <p:nvPr/>
        </p:nvSpPr>
        <p:spPr>
          <a:xfrm>
            <a:off x="826920" y="62064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oundbible.com/1964-Small-Crowd-Applau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délník 10"/>
          <p:cNvSpPr/>
          <p:nvPr/>
        </p:nvSpPr>
        <p:spPr>
          <a:xfrm>
            <a:off x="853920" y="148428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oundbible.com/1793-Flashba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ovéPole 11"/>
          <p:cNvSpPr/>
          <p:nvPr/>
        </p:nvSpPr>
        <p:spPr>
          <a:xfrm>
            <a:off x="505440" y="26028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hore. [cit.2014-04-01]. Dostupný pod licencí Public Domain na WW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ovéPole 12"/>
          <p:cNvSpPr/>
          <p:nvPr/>
        </p:nvSpPr>
        <p:spPr>
          <a:xfrm>
            <a:off x="46836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hore.[cit.2014-04-01]. Dostupný  pod licencí Public Domain na WW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ovéPole 15"/>
          <p:cNvSpPr/>
          <p:nvPr/>
        </p:nvSpPr>
        <p:spPr>
          <a:xfrm>
            <a:off x="659052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ovéPole 16"/>
          <p:cNvSpPr/>
          <p:nvPr/>
        </p:nvSpPr>
        <p:spPr>
          <a:xfrm>
            <a:off x="5294880" y="148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ovéPole 19"/>
          <p:cNvSpPr/>
          <p:nvPr/>
        </p:nvSpPr>
        <p:spPr>
          <a:xfrm>
            <a:off x="613080" y="148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ovéPole 20"/>
          <p:cNvSpPr/>
          <p:nvPr/>
        </p:nvSpPr>
        <p:spPr>
          <a:xfrm>
            <a:off x="568800" y="639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ovéPole 10"/>
          <p:cNvSpPr/>
          <p:nvPr/>
        </p:nvSpPr>
        <p:spPr>
          <a:xfrm>
            <a:off x="552240" y="184464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em obrázků je Zdeněk Hanzelí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ovéPole 1"/>
          <p:cNvSpPr/>
          <p:nvPr/>
        </p:nvSpPr>
        <p:spPr>
          <a:xfrm>
            <a:off x="693360" y="1844640"/>
            <a:ext cx="751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íš-li správně na danou otázku nebo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kol dřív, než ti vyprší časový limit, musí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x kliknout, aby se ti objevil další list tes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rávná odpověď je odměněna potlesk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z uvedených příkladů je světelný zdro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řiv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sknoucí se sk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sí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ruž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MALL_CROWD_APPLAUSE-Yannick_Lemieux-1268806408.mp3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Flashbang-Kibblesbob-899170896.mp3" descr=""/>
          <p:cNvPicPr/>
          <p:nvPr/>
        </p:nvPicPr>
        <p:blipFill>
          <a:blip r:embed="rId2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Flashbang-Kibblesbob-899170896.mp3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Flashbang-Kibblesbob-899170896.mp3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spusť časomíru!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délník 7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délník 8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élník 9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10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11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12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13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64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64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53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64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Jakou rychlostí se šíří světlo ve vaku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00 km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00 000 km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00 000 km/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40 m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SMALL_CROWD_APPLAUSE-Yannick_Lemieux-1268806408.mp3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Flashbang-Kibblesbob-899170896.mp3" descr=""/>
          <p:cNvPicPr/>
          <p:nvPr/>
        </p:nvPicPr>
        <p:blipFill>
          <a:blip r:embed="rId2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Flashbang-Kibblesbob-899170896.mp3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Flashbang-Kibblesbob-899170896.mp3" descr=""/>
          <p:cNvPicPr/>
          <p:nvPr/>
        </p:nvPicPr>
        <p:blipFill>
          <a:blip r:embed="rId4"/>
          <a:stretch/>
        </p:blipFill>
        <p:spPr>
          <a:xfrm>
            <a:off x="900000" y="2924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7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spusť časomíru!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délník 8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9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délník 10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délník 11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délník 12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13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64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053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64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64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V látkách ( voda, sklo, …) je rychlost světl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ětší než ve vaku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ětší než ve vzduc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á jako ve vaku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nší než ve vaku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SMALL_CROWD_APPLAUSE-Yannick_Lemieux-1268806408.mp3" descr=""/>
          <p:cNvPicPr/>
          <p:nvPr/>
        </p:nvPicPr>
        <p:blipFill>
          <a:blip r:embed="rId1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Flashbang-Kibblesbob-899170896.mp3" descr=""/>
          <p:cNvPicPr/>
          <p:nvPr/>
        </p:nvPicPr>
        <p:blipFill>
          <a:blip r:embed="rId2"/>
          <a:stretch/>
        </p:blipFill>
        <p:spPr>
          <a:xfrm>
            <a:off x="900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Flashbang-Kibblesbob-899170896.mp3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Flashbang-Kibblesbob-899170896.mp3" descr=""/>
          <p:cNvPicPr/>
          <p:nvPr/>
        </p:nvPicPr>
        <p:blipFill>
          <a:blip r:embed="rId4"/>
          <a:stretch/>
        </p:blipFill>
        <p:spPr>
          <a:xfrm>
            <a:off x="900000" y="2924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9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7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spusť časomír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délník 8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9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10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délník 11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délník 12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3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64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364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364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053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Jak velký je úhel dopad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SMALL_CROWD_APPLAUSE-Yannick_Lemieux-1268806408.mp3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Flashbang-Kibblesbob-899170896.mp3" descr=""/>
          <p:cNvPicPr/>
          <p:nvPr/>
        </p:nvPicPr>
        <p:blipFill>
          <a:blip r:embed="rId2"/>
          <a:stretch/>
        </p:blipFill>
        <p:spPr>
          <a:xfrm>
            <a:off x="900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Flashbang-Kibblesbob-899170896.mp3" descr=""/>
          <p:cNvPicPr/>
          <p:nvPr/>
        </p:nvPicPr>
        <p:blipFill>
          <a:blip r:embed="rId3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Flashbang-Kibblesbob-899170896.mp3" descr=""/>
          <p:cNvPicPr/>
          <p:nvPr/>
        </p:nvPicPr>
        <p:blipFill>
          <a:blip r:embed="rId4"/>
          <a:stretch/>
        </p:blipFill>
        <p:spPr>
          <a:xfrm>
            <a:off x="900000" y="2924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4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Skupina 32"/>
          <p:cNvGrpSpPr/>
          <p:nvPr/>
        </p:nvGrpSpPr>
        <p:grpSpPr>
          <a:xfrm>
            <a:off x="4140360" y="2708280"/>
            <a:ext cx="3671640" cy="1584360"/>
            <a:chOff x="4140360" y="2708280"/>
            <a:chExt cx="3671640" cy="1584360"/>
          </a:xfrm>
        </p:grpSpPr>
        <p:sp>
          <p:nvSpPr>
            <p:cNvPr id="97" name="Přímá spojovací čára 20"/>
            <p:cNvSpPr/>
            <p:nvPr/>
          </p:nvSpPr>
          <p:spPr>
            <a:xfrm>
              <a:off x="4140360" y="4292640"/>
              <a:ext cx="367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římá spojovací čára 22"/>
            <p:cNvSpPr/>
            <p:nvPr/>
          </p:nvSpPr>
          <p:spPr>
            <a:xfrm>
              <a:off x="5724720" y="2708280"/>
              <a:ext cx="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9" name="Přímá spojovací šipka 26"/>
          <p:cNvCxnSpPr/>
          <p:nvPr/>
        </p:nvCxnSpPr>
        <p:spPr>
          <a:xfrm flipV="1">
            <a:off x="5724000" y="3789000"/>
            <a:ext cx="1296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Přímá spojovací šipka 33"/>
          <p:cNvCxnSpPr/>
          <p:nvPr/>
        </p:nvCxnSpPr>
        <p:spPr>
          <a:xfrm>
            <a:off x="4284360" y="3715920"/>
            <a:ext cx="14403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Oblouk 36"/>
          <p:cNvSpPr/>
          <p:nvPr/>
        </p:nvSpPr>
        <p:spPr>
          <a:xfrm rot="1401000">
            <a:off x="6310080" y="3925800"/>
            <a:ext cx="431640" cy="505080"/>
          </a:xfrm>
          <a:custGeom>
            <a:avLst/>
            <a:gdLst/>
            <a:ahLst/>
            <a:rect l="l" t="t" r="r" b="b"/>
            <a:pathLst>
              <a:path stroke="0" w="431800" h="504825">
                <a:moveTo>
                  <a:pt x="215900" y="0"/>
                </a:moveTo>
                <a:cubicBezTo>
                  <a:pt x="335138" y="0"/>
                  <a:pt x="431800" y="113009"/>
                  <a:pt x="431800" y="252413"/>
                </a:cubicBezTo>
                <a:lnTo>
                  <a:pt x="215900" y="252413"/>
                </a:lnTo>
                <a:lnTo>
                  <a:pt x="215900" y="0"/>
                </a:lnTo>
                <a:close/>
              </a:path>
              <a:path fill="none" w="431800" h="504825">
                <a:moveTo>
                  <a:pt x="215900" y="0"/>
                </a:moveTo>
                <a:cubicBezTo>
                  <a:pt x="335138" y="0"/>
                  <a:pt x="431800" y="113009"/>
                  <a:pt x="431800" y="252413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37"/>
          <p:cNvSpPr/>
          <p:nvPr/>
        </p:nvSpPr>
        <p:spPr>
          <a:xfrm>
            <a:off x="6880320" y="3860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38"/>
          <p:cNvSpPr/>
          <p:nvPr/>
        </p:nvSpPr>
        <p:spPr>
          <a:xfrm>
            <a:off x="1481400" y="393372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43"/>
          <p:cNvSpPr/>
          <p:nvPr/>
        </p:nvSpPr>
        <p:spPr>
          <a:xfrm>
            <a:off x="1265760" y="2781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3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44"/>
          <p:cNvSpPr/>
          <p:nvPr/>
        </p:nvSpPr>
        <p:spPr>
          <a:xfrm>
            <a:off x="1481400" y="328464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45"/>
          <p:cNvSpPr/>
          <p:nvPr/>
        </p:nvSpPr>
        <p:spPr>
          <a:xfrm>
            <a:off x="1481400" y="450864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spusť časomíru!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8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9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10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délník 11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délník 12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13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64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64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364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053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větelný paprsek dopadá kolmo na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vinné zrcadlo. Úhel dopadu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SMALL_CROWD_APPLAUSE-Yannick_Lemieux-1268806408.mp3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Flashbang-Kibblesbob-899170896.mp3" descr=""/>
          <p:cNvPicPr/>
          <p:nvPr/>
        </p:nvPicPr>
        <p:blipFill>
          <a:blip r:embed="rId2"/>
          <a:stretch/>
        </p:blipFill>
        <p:spPr>
          <a:xfrm>
            <a:off x="900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Flashbang-Kibblesbob-899170896.mp3" descr=""/>
          <p:cNvPicPr/>
          <p:nvPr/>
        </p:nvPicPr>
        <p:blipFill>
          <a:blip r:embed="rId3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Flashbang-Kibblesbob-899170896.mp3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7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8"/>
          <p:cNvSpPr/>
          <p:nvPr/>
        </p:nvSpPr>
        <p:spPr>
          <a:xfrm>
            <a:off x="1337760" y="393372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3"/>
          <p:cNvSpPr/>
          <p:nvPr/>
        </p:nvSpPr>
        <p:spPr>
          <a:xfrm>
            <a:off x="1480320" y="270828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44"/>
          <p:cNvSpPr/>
          <p:nvPr/>
        </p:nvSpPr>
        <p:spPr>
          <a:xfrm>
            <a:off x="1337760" y="335772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véPole 45"/>
          <p:cNvSpPr/>
          <p:nvPr/>
        </p:nvSpPr>
        <p:spPr>
          <a:xfrm>
            <a:off x="1338840" y="450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spusť časomíru!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délník 8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9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délník 10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délník 11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délník 12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délník 13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053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64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364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364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 kterém obrázku je správně označen úhel dopadu světelného paprsk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9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SMALL_CROWD_APPLAUSE-Yannick_Lemieux-1268806408.mp3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Flashbang-Kibblesbob-899170896.mp3" descr=""/>
          <p:cNvPicPr/>
          <p:nvPr/>
        </p:nvPicPr>
        <p:blipFill>
          <a:blip r:embed="rId2"/>
          <a:stretch/>
        </p:blipFill>
        <p:spPr>
          <a:xfrm>
            <a:off x="226836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Flashbang-Kibblesbob-899170896.mp3" descr=""/>
          <p:cNvPicPr/>
          <p:nvPr/>
        </p:nvPicPr>
        <p:blipFill>
          <a:blip r:embed="rId3"/>
          <a:stretch/>
        </p:blipFill>
        <p:spPr>
          <a:xfrm>
            <a:off x="5940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Flashbang-Kibblesbob-899170896.mp3" descr=""/>
          <p:cNvPicPr/>
          <p:nvPr/>
        </p:nvPicPr>
        <p:blipFill>
          <a:blip r:embed="rId4"/>
          <a:stretch/>
        </p:blipFill>
        <p:spPr>
          <a:xfrm>
            <a:off x="219564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9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délník 7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délník 8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9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délník 10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1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2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3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Skupina 44"/>
          <p:cNvGrpSpPr/>
          <p:nvPr/>
        </p:nvGrpSpPr>
        <p:grpSpPr>
          <a:xfrm>
            <a:off x="1619280" y="2637000"/>
            <a:ext cx="1728720" cy="1368360"/>
            <a:chOff x="1619280" y="2637000"/>
            <a:chExt cx="1728720" cy="1368360"/>
          </a:xfrm>
        </p:grpSpPr>
        <p:sp>
          <p:nvSpPr>
            <p:cNvPr id="148" name="Přímá spojovací čára 23"/>
            <p:cNvSpPr/>
            <p:nvPr/>
          </p:nvSpPr>
          <p:spPr>
            <a:xfrm>
              <a:off x="1619280" y="38610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římá spojovací čára 25"/>
            <p:cNvSpPr/>
            <p:nvPr/>
          </p:nvSpPr>
          <p:spPr>
            <a:xfrm flipH="1">
              <a:off x="1690560" y="386100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římá spojovací čára 26"/>
            <p:cNvSpPr/>
            <p:nvPr/>
          </p:nvSpPr>
          <p:spPr>
            <a:xfrm flipH="1">
              <a:off x="1908000" y="386100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římá spojovací čára 27"/>
            <p:cNvSpPr/>
            <p:nvPr/>
          </p:nvSpPr>
          <p:spPr>
            <a:xfrm flipH="1">
              <a:off x="2124000" y="386100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římá spojovací čára 32"/>
            <p:cNvSpPr/>
            <p:nvPr/>
          </p:nvSpPr>
          <p:spPr>
            <a:xfrm flipH="1">
              <a:off x="2411280" y="386100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římá spojovací čára 33"/>
            <p:cNvSpPr/>
            <p:nvPr/>
          </p:nvSpPr>
          <p:spPr>
            <a:xfrm flipH="1">
              <a:off x="2627280" y="386100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římá spojovací čára 34"/>
            <p:cNvSpPr/>
            <p:nvPr/>
          </p:nvSpPr>
          <p:spPr>
            <a:xfrm flipH="1">
              <a:off x="2843280" y="386100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římá spojovací čára 35"/>
            <p:cNvSpPr/>
            <p:nvPr/>
          </p:nvSpPr>
          <p:spPr>
            <a:xfrm flipH="1">
              <a:off x="3060720" y="386100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římá spojovací čára 36"/>
            <p:cNvSpPr/>
            <p:nvPr/>
          </p:nvSpPr>
          <p:spPr>
            <a:xfrm flipH="1">
              <a:off x="3276720" y="386100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římá spojovací čára 39"/>
            <p:cNvSpPr/>
            <p:nvPr/>
          </p:nvSpPr>
          <p:spPr>
            <a:xfrm>
              <a:off x="2411280" y="263700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římá spojovací čára 41"/>
            <p:cNvSpPr/>
            <p:nvPr/>
          </p:nvSpPr>
          <p:spPr>
            <a:xfrm>
              <a:off x="1619280" y="2997360"/>
              <a:ext cx="79200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Přímá spojovací šipka 43"/>
            <p:cNvCxnSpPr/>
            <p:nvPr/>
          </p:nvCxnSpPr>
          <p:spPr>
            <a:xfrm>
              <a:off x="1619280" y="2997360"/>
              <a:ext cx="28944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0" name="Skupina 45"/>
          <p:cNvGrpSpPr/>
          <p:nvPr/>
        </p:nvGrpSpPr>
        <p:grpSpPr>
          <a:xfrm>
            <a:off x="5076360" y="2637000"/>
            <a:ext cx="1799280" cy="1439640"/>
            <a:chOff x="5076360" y="2637000"/>
            <a:chExt cx="1799280" cy="1439640"/>
          </a:xfrm>
        </p:grpSpPr>
        <p:sp>
          <p:nvSpPr>
            <p:cNvPr id="161" name="Přímá spojovací čára 46"/>
            <p:cNvSpPr/>
            <p:nvPr/>
          </p:nvSpPr>
          <p:spPr>
            <a:xfrm>
              <a:off x="5076720" y="3926160"/>
              <a:ext cx="179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římá spojovací čára 47"/>
            <p:cNvSpPr/>
            <p:nvPr/>
          </p:nvSpPr>
          <p:spPr>
            <a:xfrm flipH="1">
              <a:off x="5150880" y="3926160"/>
              <a:ext cx="74520" cy="1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římá spojovací čára 48"/>
            <p:cNvSpPr/>
            <p:nvPr/>
          </p:nvSpPr>
          <p:spPr>
            <a:xfrm flipH="1">
              <a:off x="5376240" y="3926160"/>
              <a:ext cx="74520" cy="1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římá spojovací čára 49"/>
            <p:cNvSpPr/>
            <p:nvPr/>
          </p:nvSpPr>
          <p:spPr>
            <a:xfrm flipH="1">
              <a:off x="5600160" y="3926160"/>
              <a:ext cx="75960" cy="1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římá spojovací čára 50"/>
            <p:cNvSpPr/>
            <p:nvPr/>
          </p:nvSpPr>
          <p:spPr>
            <a:xfrm flipH="1">
              <a:off x="5900400" y="3926160"/>
              <a:ext cx="75960" cy="1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Přímá spojovací čára 51"/>
            <p:cNvSpPr/>
            <p:nvPr/>
          </p:nvSpPr>
          <p:spPr>
            <a:xfrm flipH="1">
              <a:off x="6125760" y="3926160"/>
              <a:ext cx="74520" cy="1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Přímá spojovací čára 52"/>
            <p:cNvSpPr/>
            <p:nvPr/>
          </p:nvSpPr>
          <p:spPr>
            <a:xfrm flipH="1">
              <a:off x="6351480" y="3926160"/>
              <a:ext cx="74520" cy="1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římá spojovací čára 53"/>
            <p:cNvSpPr/>
            <p:nvPr/>
          </p:nvSpPr>
          <p:spPr>
            <a:xfrm flipH="1">
              <a:off x="6575400" y="3926160"/>
              <a:ext cx="74520" cy="1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římá spojovací čára 54"/>
            <p:cNvSpPr/>
            <p:nvPr/>
          </p:nvSpPr>
          <p:spPr>
            <a:xfrm flipH="1">
              <a:off x="6800760" y="3926160"/>
              <a:ext cx="74520" cy="1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Přímá spojovací čára 55"/>
            <p:cNvSpPr/>
            <p:nvPr/>
          </p:nvSpPr>
          <p:spPr>
            <a:xfrm>
              <a:off x="5900760" y="263700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Přímá spojovací čára 56"/>
            <p:cNvSpPr/>
            <p:nvPr/>
          </p:nvSpPr>
          <p:spPr>
            <a:xfrm>
              <a:off x="5076720" y="3016440"/>
              <a:ext cx="82404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Přímá spojovací šipka 57"/>
            <p:cNvCxnSpPr/>
            <p:nvPr/>
          </p:nvCxnSpPr>
          <p:spPr>
            <a:xfrm>
              <a:off x="5076360" y="3016440"/>
              <a:ext cx="300600" cy="303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73" name="Skupina 58"/>
          <p:cNvGrpSpPr/>
          <p:nvPr/>
        </p:nvGrpSpPr>
        <p:grpSpPr>
          <a:xfrm>
            <a:off x="1547640" y="4724280"/>
            <a:ext cx="1729080" cy="1368720"/>
            <a:chOff x="1547640" y="4724280"/>
            <a:chExt cx="1729080" cy="1368720"/>
          </a:xfrm>
        </p:grpSpPr>
        <p:sp>
          <p:nvSpPr>
            <p:cNvPr id="174" name="Přímá spojovací čára 59"/>
            <p:cNvSpPr/>
            <p:nvPr/>
          </p:nvSpPr>
          <p:spPr>
            <a:xfrm>
              <a:off x="1547640" y="5948640"/>
              <a:ext cx="172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římá spojovací čára 60"/>
            <p:cNvSpPr/>
            <p:nvPr/>
          </p:nvSpPr>
          <p:spPr>
            <a:xfrm flipH="1">
              <a:off x="1618920" y="594864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římá spojovací čára 61"/>
            <p:cNvSpPr/>
            <p:nvPr/>
          </p:nvSpPr>
          <p:spPr>
            <a:xfrm flipH="1">
              <a:off x="1836360" y="594864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římá spojovací čára 62"/>
            <p:cNvSpPr/>
            <p:nvPr/>
          </p:nvSpPr>
          <p:spPr>
            <a:xfrm flipH="1">
              <a:off x="2052360" y="594864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římá spojovací čára 63"/>
            <p:cNvSpPr/>
            <p:nvPr/>
          </p:nvSpPr>
          <p:spPr>
            <a:xfrm flipH="1">
              <a:off x="2340000" y="594864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Přímá spojovací čára 64"/>
            <p:cNvSpPr/>
            <p:nvPr/>
          </p:nvSpPr>
          <p:spPr>
            <a:xfrm flipH="1">
              <a:off x="2556000" y="594864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Přímá spojovací čára 65"/>
            <p:cNvSpPr/>
            <p:nvPr/>
          </p:nvSpPr>
          <p:spPr>
            <a:xfrm flipH="1">
              <a:off x="2772000" y="594864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Přímá spojovací čára 66"/>
            <p:cNvSpPr/>
            <p:nvPr/>
          </p:nvSpPr>
          <p:spPr>
            <a:xfrm flipH="1">
              <a:off x="2989440" y="594864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Přímá spojovací čára 67"/>
            <p:cNvSpPr/>
            <p:nvPr/>
          </p:nvSpPr>
          <p:spPr>
            <a:xfrm flipH="1">
              <a:off x="3205440" y="594864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římá spojovací čára 68"/>
            <p:cNvSpPr/>
            <p:nvPr/>
          </p:nvSpPr>
          <p:spPr>
            <a:xfrm>
              <a:off x="2340000" y="4724280"/>
              <a:ext cx="0" cy="12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Přímá spojovací čára 69"/>
            <p:cNvSpPr/>
            <p:nvPr/>
          </p:nvSpPr>
          <p:spPr>
            <a:xfrm>
              <a:off x="1547640" y="5084640"/>
              <a:ext cx="792360" cy="86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" name="Přímá spojovací šipka 70"/>
            <p:cNvCxnSpPr/>
            <p:nvPr/>
          </p:nvCxnSpPr>
          <p:spPr>
            <a:xfrm>
              <a:off x="1547640" y="5084640"/>
              <a:ext cx="28944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86" name="Skupina 71"/>
          <p:cNvGrpSpPr/>
          <p:nvPr/>
        </p:nvGrpSpPr>
        <p:grpSpPr>
          <a:xfrm>
            <a:off x="5219640" y="4724280"/>
            <a:ext cx="1728720" cy="1368720"/>
            <a:chOff x="5219640" y="4724280"/>
            <a:chExt cx="1728720" cy="1368720"/>
          </a:xfrm>
        </p:grpSpPr>
        <p:sp>
          <p:nvSpPr>
            <p:cNvPr id="187" name="Přímá spojovací čára 72"/>
            <p:cNvSpPr/>
            <p:nvPr/>
          </p:nvSpPr>
          <p:spPr>
            <a:xfrm>
              <a:off x="5219640" y="594864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Přímá spojovací čára 73"/>
            <p:cNvSpPr/>
            <p:nvPr/>
          </p:nvSpPr>
          <p:spPr>
            <a:xfrm flipH="1">
              <a:off x="5290920" y="594864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Přímá spojovací čára 74"/>
            <p:cNvSpPr/>
            <p:nvPr/>
          </p:nvSpPr>
          <p:spPr>
            <a:xfrm flipH="1">
              <a:off x="5508360" y="594864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římá spojovací čára 75"/>
            <p:cNvSpPr/>
            <p:nvPr/>
          </p:nvSpPr>
          <p:spPr>
            <a:xfrm flipH="1">
              <a:off x="5724360" y="594864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římá spojovací čára 76"/>
            <p:cNvSpPr/>
            <p:nvPr/>
          </p:nvSpPr>
          <p:spPr>
            <a:xfrm flipH="1">
              <a:off x="6011640" y="594864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Přímá spojovací čára 77"/>
            <p:cNvSpPr/>
            <p:nvPr/>
          </p:nvSpPr>
          <p:spPr>
            <a:xfrm flipH="1">
              <a:off x="6227640" y="594864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Přímá spojovací čára 78"/>
            <p:cNvSpPr/>
            <p:nvPr/>
          </p:nvSpPr>
          <p:spPr>
            <a:xfrm flipH="1">
              <a:off x="6443640" y="5948640"/>
              <a:ext cx="7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Přímá spojovací čára 79"/>
            <p:cNvSpPr/>
            <p:nvPr/>
          </p:nvSpPr>
          <p:spPr>
            <a:xfrm flipH="1">
              <a:off x="6661080" y="594864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římá spojovací čára 80"/>
            <p:cNvSpPr/>
            <p:nvPr/>
          </p:nvSpPr>
          <p:spPr>
            <a:xfrm flipH="1">
              <a:off x="6877080" y="5948640"/>
              <a:ext cx="71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Přímá spojovací čára 81"/>
            <p:cNvSpPr/>
            <p:nvPr/>
          </p:nvSpPr>
          <p:spPr>
            <a:xfrm>
              <a:off x="6011640" y="4724280"/>
              <a:ext cx="0" cy="12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Přímá spojovací čára 82"/>
            <p:cNvSpPr/>
            <p:nvPr/>
          </p:nvSpPr>
          <p:spPr>
            <a:xfrm>
              <a:off x="5219640" y="5084640"/>
              <a:ext cx="792000" cy="86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Přímá spojovací šipka 83"/>
            <p:cNvCxnSpPr/>
            <p:nvPr/>
          </p:nvCxnSpPr>
          <p:spPr>
            <a:xfrm>
              <a:off x="5219640" y="5084640"/>
              <a:ext cx="289440" cy="288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99" name="Oblouk 84"/>
          <p:cNvSpPr/>
          <p:nvPr/>
        </p:nvSpPr>
        <p:spPr>
          <a:xfrm rot="14328600">
            <a:off x="5609160" y="4867200"/>
            <a:ext cx="833400" cy="1482840"/>
          </a:xfrm>
          <a:custGeom>
            <a:avLst/>
            <a:gdLst/>
            <a:ahLst/>
            <a:rect l="l" t="t" r="r" b="b"/>
            <a:pathLst>
              <a:path stroke="0" w="833437" h="1482725">
                <a:moveTo>
                  <a:pt x="416718" y="0"/>
                </a:moveTo>
                <a:cubicBezTo>
                  <a:pt x="595001" y="0"/>
                  <a:pt x="753535" y="201770"/>
                  <a:pt x="811109" y="501950"/>
                </a:cubicBezTo>
                <a:cubicBezTo>
                  <a:pt x="838837" y="646517"/>
                  <a:pt x="840787" y="802793"/>
                  <a:pt x="816692" y="949406"/>
                </a:cubicBezTo>
                <a:lnTo>
                  <a:pt x="416719" y="741363"/>
                </a:lnTo>
                <a:cubicBezTo>
                  <a:pt x="416719" y="494242"/>
                  <a:pt x="416718" y="247121"/>
                  <a:pt x="416718" y="0"/>
                </a:cubicBezTo>
                <a:close/>
              </a:path>
              <a:path fill="none" w="833437" h="1482725">
                <a:moveTo>
                  <a:pt x="416718" y="0"/>
                </a:moveTo>
                <a:cubicBezTo>
                  <a:pt x="595001" y="0"/>
                  <a:pt x="753535" y="201770"/>
                  <a:pt x="811109" y="501950"/>
                </a:cubicBezTo>
                <a:cubicBezTo>
                  <a:pt x="838837" y="646517"/>
                  <a:pt x="840787" y="802793"/>
                  <a:pt x="816692" y="9494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louk 85"/>
          <p:cNvSpPr/>
          <p:nvPr/>
        </p:nvSpPr>
        <p:spPr>
          <a:xfrm rot="14326200">
            <a:off x="1819800" y="3216240"/>
            <a:ext cx="655560" cy="847800"/>
          </a:xfrm>
          <a:custGeom>
            <a:avLst/>
            <a:gdLst/>
            <a:ahLst/>
            <a:rect l="l" t="t" r="r" b="b"/>
            <a:pathLst>
              <a:path stroke="0" w="655637" h="847725">
                <a:moveTo>
                  <a:pt x="327818" y="0"/>
                </a:moveTo>
                <a:cubicBezTo>
                  <a:pt x="508867" y="0"/>
                  <a:pt x="655637" y="189770"/>
                  <a:pt x="655637" y="423863"/>
                </a:cubicBezTo>
                <a:lnTo>
                  <a:pt x="327819" y="423863"/>
                </a:lnTo>
                <a:cubicBezTo>
                  <a:pt x="327819" y="282575"/>
                  <a:pt x="327818" y="141288"/>
                  <a:pt x="327818" y="0"/>
                </a:cubicBezTo>
                <a:close/>
              </a:path>
              <a:path fill="none" w="655637" h="847725">
                <a:moveTo>
                  <a:pt x="327818" y="0"/>
                </a:moveTo>
                <a:cubicBezTo>
                  <a:pt x="508867" y="0"/>
                  <a:pt x="655637" y="189770"/>
                  <a:pt x="655637" y="4238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louk 86"/>
          <p:cNvSpPr/>
          <p:nvPr/>
        </p:nvSpPr>
        <p:spPr>
          <a:xfrm rot="18041400">
            <a:off x="5177520" y="3255120"/>
            <a:ext cx="947520" cy="609480"/>
          </a:xfrm>
          <a:custGeom>
            <a:avLst/>
            <a:gdLst/>
            <a:ahLst/>
            <a:rect l="l" t="t" r="r" b="b"/>
            <a:pathLst>
              <a:path stroke="0" w="947738" h="609600">
                <a:moveTo>
                  <a:pt x="473869" y="0"/>
                </a:moveTo>
                <a:cubicBezTo>
                  <a:pt x="735580" y="0"/>
                  <a:pt x="947738" y="136464"/>
                  <a:pt x="947738" y="304800"/>
                </a:cubicBezTo>
                <a:lnTo>
                  <a:pt x="473869" y="304800"/>
                </a:lnTo>
                <a:lnTo>
                  <a:pt x="473869" y="0"/>
                </a:lnTo>
                <a:close/>
              </a:path>
              <a:path fill="none" w="947738" h="609600">
                <a:moveTo>
                  <a:pt x="473869" y="0"/>
                </a:moveTo>
                <a:cubicBezTo>
                  <a:pt x="735580" y="0"/>
                  <a:pt x="947738" y="136464"/>
                  <a:pt x="947738" y="3048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louk 88"/>
          <p:cNvSpPr/>
          <p:nvPr/>
        </p:nvSpPr>
        <p:spPr>
          <a:xfrm>
            <a:off x="1763640" y="5445000"/>
            <a:ext cx="1130400" cy="914400"/>
          </a:xfrm>
          <a:custGeom>
            <a:avLst/>
            <a:gdLst/>
            <a:ahLst/>
            <a:rect l="l" t="t" r="r" b="b"/>
            <a:pathLst>
              <a:path stroke="0" w="1130300" h="914400">
                <a:moveTo>
                  <a:pt x="565150" y="0"/>
                </a:moveTo>
                <a:cubicBezTo>
                  <a:pt x="701137" y="0"/>
                  <a:pt x="832565" y="39668"/>
                  <a:pt x="935321" y="111725"/>
                </a:cubicBezTo>
                <a:cubicBezTo>
                  <a:pt x="1071923" y="207517"/>
                  <a:pt x="1143635" y="350394"/>
                  <a:pt x="1128249" y="496111"/>
                </a:cubicBezTo>
                <a:lnTo>
                  <a:pt x="565150" y="457200"/>
                </a:lnTo>
                <a:lnTo>
                  <a:pt x="565150" y="0"/>
                </a:lnTo>
                <a:close/>
              </a:path>
              <a:path fill="none" w="1130300" h="914400">
                <a:moveTo>
                  <a:pt x="565150" y="0"/>
                </a:moveTo>
                <a:cubicBezTo>
                  <a:pt x="701137" y="0"/>
                  <a:pt x="832565" y="39668"/>
                  <a:pt x="935321" y="111725"/>
                </a:cubicBezTo>
                <a:cubicBezTo>
                  <a:pt x="1071923" y="207517"/>
                  <a:pt x="1143635" y="350394"/>
                  <a:pt x="1128249" y="4961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89"/>
          <p:cNvSpPr/>
          <p:nvPr/>
        </p:nvSpPr>
        <p:spPr>
          <a:xfrm>
            <a:off x="5654520" y="5300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90"/>
          <p:cNvSpPr/>
          <p:nvPr/>
        </p:nvSpPr>
        <p:spPr>
          <a:xfrm>
            <a:off x="2413440" y="5516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délník 91"/>
          <p:cNvSpPr/>
          <p:nvPr/>
        </p:nvSpPr>
        <p:spPr>
          <a:xfrm>
            <a:off x="5510880" y="3213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92"/>
          <p:cNvSpPr/>
          <p:nvPr/>
        </p:nvSpPr>
        <p:spPr>
          <a:xfrm>
            <a:off x="1765800" y="3500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spusť časomíru!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364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053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364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364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 velký musí být úhel dopadu, aby odražený paprsek svíral s dopadajícím pravý úh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SMALL_CROWD_APPLAUSE-Yannick_Lemieux-1268806408.mp3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Flashbang-Kibblesbob-899170896.mp3" descr=""/>
          <p:cNvPicPr/>
          <p:nvPr/>
        </p:nvPicPr>
        <p:blipFill>
          <a:blip r:embed="rId2"/>
          <a:stretch/>
        </p:blipFill>
        <p:spPr>
          <a:xfrm>
            <a:off x="900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Flashbang-Kibblesbob-899170896.mp3" descr=""/>
          <p:cNvPicPr/>
          <p:nvPr/>
        </p:nvPicPr>
        <p:blipFill>
          <a:blip r:embed="rId3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Flashbang-Kibblesbob-899170896.mp3" descr=""/>
          <p:cNvPicPr/>
          <p:nvPr/>
        </p:nvPicPr>
        <p:blipFill>
          <a:blip r:embed="rId4"/>
          <a:stretch/>
        </p:blipFill>
        <p:spPr>
          <a:xfrm>
            <a:off x="900000" y="2852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bdélník 7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8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9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10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délník 11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cc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délník 12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délník 13"/>
          <p:cNvSpPr/>
          <p:nvPr/>
        </p:nvSpPr>
        <p:spPr>
          <a:xfrm>
            <a:off x="6012000" y="1484280"/>
            <a:ext cx="91440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ovéPole 38"/>
          <p:cNvSpPr/>
          <p:nvPr/>
        </p:nvSpPr>
        <p:spPr>
          <a:xfrm>
            <a:off x="1337760" y="400536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ovéPole 43"/>
          <p:cNvSpPr/>
          <p:nvPr/>
        </p:nvSpPr>
        <p:spPr>
          <a:xfrm>
            <a:off x="1551600" y="270828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ovéPole 44"/>
          <p:cNvSpPr/>
          <p:nvPr/>
        </p:nvSpPr>
        <p:spPr>
          <a:xfrm>
            <a:off x="1337760" y="335772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ovéPole 45"/>
          <p:cNvSpPr/>
          <p:nvPr/>
        </p:nvSpPr>
        <p:spPr>
          <a:xfrm>
            <a:off x="1265760" y="4581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ovéPole 9"/>
          <p:cNvSpPr/>
          <p:nvPr/>
        </p:nvSpPr>
        <p:spPr>
          <a:xfrm>
            <a:off x="179280" y="1484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ěz do časového limitu 3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spusť časomíru!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0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364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364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364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053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4:25:39Z</dcterms:created>
  <dc:creator>Pavilion</dc:creator>
  <dc:description/>
  <dc:language>en-US</dc:language>
  <cp:lastModifiedBy>Krobot Ivo</cp:lastModifiedBy>
  <dcterms:modified xsi:type="dcterms:W3CDTF">2014-05-19T08:52:19Z</dcterms:modified>
  <cp:revision>14</cp:revision>
  <dc:subject/>
  <dc:title>Snímek 1</dc:title>
</cp:coreProperties>
</file>